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84E-511F-478D-9200-8D1B1C02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798-AA1D-4B9E-A57A-7D3B2890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D85-1E68-4250-9E77-60475794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3CA-BF02-4B52-B587-75A9B2FB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10DE-96CB-46EA-82EB-6709AED1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4D4B-986F-48B5-96F8-DCCA2466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CFDC-16F2-416A-A713-CD4308BF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F37E-F017-487F-AAC8-68067356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8D73-C7CD-41CE-89AA-3667DE15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D181-41C8-428B-B860-0481DFC7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42BD-3041-4556-A174-52A18F12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84F-F4CD-4AF7-92A8-C2401DF7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5E2F-6A87-4E8B-825F-9E1CD72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3F37-4BC5-44D3-BFC2-8AA78A7D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7BCE-A6D2-40B1-8239-CC23AF4A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13AD-419F-488A-B717-EB8BD2E1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8628-92A1-486A-B758-8E9E1A45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328-7302-4C66-8F11-C79A6502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E4C-52C1-48F5-B807-D8D8698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80C-0A3B-4945-9BF1-0DC92147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BB9-6301-44E9-82CF-19C30C27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4AB-D70A-4C84-9AB4-B7CA58D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CD2-54EF-427D-BF55-10B0F45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E26-0156-4346-90AD-D99C80CC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6C72-6945-4792-9FD2-74D7D7DF4F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8534-3499-42A7-A26A-1F2FE05B76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Relics and Ritual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ians believed pharaoh was son of Horus; made pharaoh a god and the high priest of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morning pharaoh went to temple to awaken idol of Ho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hed and clothed idol, gave it food, and put makeup on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nhotep IV:  only pharaoh who tried to change Egypt’s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ved there was only one great god,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raoh changed his own name to Akhen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ests did not like losing power and people did not want to give up old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henaton was murd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9052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utankhamen (1358-1339 B.C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tankhamen: --became Pharaoh at 10 y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d when he was 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famous for much except his to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mb discovered intact by Howard Carter in 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ms in his tomb teach us how pharaohs lived and d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utankhame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31768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95880" y="1219320"/>
            <a:ext cx="2832120" cy="3286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4638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New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eses II: one of the last pharaohs who kept empire str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ated the Hitt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temples, like Kar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colossal statues made of him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warrior, wise, and k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08320" cy="3505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4114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New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Rameses’ death, Egypt grew wea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 years later, Egypt was attacked and taken over by foreign invad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ians were polytheists (worshipped many go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:  Egyptian sun god; created and ruled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ests combined him with their god, Amon, to make Amon-Ra; this made the priests very power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45280" y="1143000"/>
            <a:ext cx="2631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iris: god of the underworld; jackal-hea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death, Egyptian traveled to Hall of Judgment; Osiris weighed the person’s heart against the feather of jus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 had to quote from Book of the Dead, saying that they were p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41529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is:  Osiris’ wife; protected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rus:  Osiris and Isis’ son; body of man and head of falcon or haw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527560" cy="5029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324480" y="2057400"/>
            <a:ext cx="2590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iris, Isis, and Horus were model Egyptian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thor: goddess of love; body of woman and head of c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Hathor"/>
          <p:cNvPicPr/>
          <p:nvPr/>
        </p:nvPicPr>
        <p:blipFill>
          <a:blip r:embed="rId1"/>
          <a:stretch/>
        </p:blipFill>
        <p:spPr>
          <a:xfrm>
            <a:off x="6248520" y="2743200"/>
            <a:ext cx="2500200" cy="3581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38307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3:37Z</dcterms:created>
  <dc:creator>erin.hendricks</dc:creator>
  <dc:description/>
  <dc:language>en-US</dc:language>
  <cp:lastModifiedBy>erin.hendricks</cp:lastModifiedBy>
  <dcterms:modified xsi:type="dcterms:W3CDTF">2011-09-21T13:34:48Z</dcterms:modified>
  <cp:revision>2</cp:revision>
  <dc:subject/>
  <dc:title>Relics and Rituals</dc:title>
</cp:coreProperties>
</file>